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1C6-FBA2-4B86-A64A-22FAA03A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6E8-E6AA-4530-9AE3-D97E35CD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023-F705-4908-8859-82A2D28C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AA8-9198-4F4C-8F60-C4F657FF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C6E-99E8-465F-B68D-A832A8FC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5AB-BFDA-4F88-B04D-CC2F9174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8DE-DE13-45A2-8BBC-4580F426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516-D941-4D64-8712-6339E09A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1CB-52C7-4D57-8AC7-D8B2A4BD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9DC-34B2-44A4-A011-3F5ECEF6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1C4-EB31-4A1F-ADC6-4443FCBE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0DA-6EEA-47E9-87F7-FAA1E338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7562-054E-4884-AC9C-D4859A253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We praise you, O Go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ty, you seek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ercy, you keep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ation, you glorif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eneros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provide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wisdom, you plac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ight, you shiel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overna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make us ho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communion, you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love, you lift us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sed on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he Nine Choirs: How They Sing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y Mechtild of Magdeburg (1210-1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24:36Z</dcterms:created>
  <dc:creator>Anon Anon</dc:creator>
  <dc:description/>
  <dc:language>en-US</dc:language>
  <cp:lastModifiedBy>Anon Anon</cp:lastModifiedBy>
  <dcterms:modified xsi:type="dcterms:W3CDTF">2005-08-09T05:45:24Z</dcterms:modified>
  <cp:revision>8</cp:revision>
  <dc:subject/>
  <dc:title>PowerPoint Presentation</dc:title>
</cp:coreProperties>
</file>